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F4A-7CCA-46D2-859B-DACB40F8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F0D-A67E-479D-A041-F189CDC8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72A-4D86-452E-8815-161814AA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370-CC69-4CE5-929B-2386E7F3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3D9-5DFE-48F6-B850-4DB3B335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E51-5EC7-4D89-8FEC-1855AB72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B74-5F8E-4F30-A0D0-B4301D81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C17-0ED5-47E9-9D7A-8F7AD3F9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03F-56C8-4AAD-AAA1-33A0E7B8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6FA-1A8C-48C4-8FF9-FB95B11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FF6-1ABB-4A52-8153-85936DD3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980-312E-44D8-8F48-44E835D0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3175-F288-4C7B-B20D-AE6A891B4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808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066680" y="5867280"/>
            <a:ext cx="6248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7391520" y="4572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808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3808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819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50840" y="-311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05280" y="-158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20080" y="-235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280" y="12891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9120" y="13651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760" y="37274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4760" y="9079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34280" y="9079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10560" y="34988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6920" y="32702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0:04:37Z</dcterms:created>
  <dc:creator>Sorita Alexander</dc:creator>
  <dc:description/>
  <dc:language>en-US</dc:language>
  <cp:lastModifiedBy>Sorita Alexander</cp:lastModifiedBy>
  <dcterms:modified xsi:type="dcterms:W3CDTF">2011-03-10T00:14:07Z</dcterms:modified>
  <cp:revision>2</cp:revision>
  <dc:subject/>
  <dc:title>Slide 1</dc:title>
</cp:coreProperties>
</file>